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4.png" ContentType="image/png"/>
  <Override PartName="/ppt/media/image11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35.wmf" ContentType="image/x-wmf"/>
  <Override PartName="/ppt/media/image5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8.wmf" ContentType="image/x-wmf"/>
  <Override PartName="/ppt/media/image37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43.wmf" ContentType="image/x-wmf"/>
  <Override PartName="/ppt/media/image46.jpeg" ContentType="image/jpeg"/>
  <Override PartName="/ppt/media/image54.png" ContentType="image/png"/>
  <Override PartName="/ppt/media/image42.wmf" ContentType="image/x-wmf"/>
  <Override PartName="/ppt/media/image47.jpeg" ContentType="image/jpeg"/>
  <Override PartName="/ppt/media/image48.png" ContentType="image/png"/>
  <Override PartName="/ppt/media/image33.wmf" ContentType="image/x-wmf"/>
  <Override PartName="/ppt/media/image12.jpeg" ContentType="image/jpeg"/>
  <Override PartName="/ppt/media/image45.jpeg" ContentType="image/jpeg"/>
  <Override PartName="/ppt/media/image50.jpeg" ContentType="image/jpeg"/>
  <Override PartName="/ppt/media/image52.png" ContentType="image/png"/>
  <Override PartName="/ppt/media/image49.jpeg" ContentType="image/jpeg"/>
  <Override PartName="/ppt/media/image51.png" ContentType="image/png"/>
  <Override PartName="/ppt/media/image34.wmf" ContentType="image/x-wmf"/>
  <Override PartName="/ppt/media/image53.png" ContentType="image/png"/>
  <Override PartName="/ppt/media/image55.jpeg" ContentType="image/jpeg"/>
  <Override PartName="/ppt/media/image39.jpeg" ContentType="image/jpeg"/>
  <Override PartName="/ppt/media/image38.png" ContentType="image/png"/>
  <Override PartName="/ppt/media/image36.png" ContentType="image/png"/>
  <Override PartName="/ppt/media/image31.wmf" ContentType="image/x-wmf"/>
  <Override PartName="/ppt/media/image30.wmf" ContentType="image/x-wmf"/>
  <Override PartName="/ppt/media/image13.jpeg" ContentType="image/jpeg"/>
  <Override PartName="/ppt/media/image44.png" ContentType="image/png"/>
  <Override PartName="/ppt/media/image40.jpeg" ContentType="image/jpeg"/>
  <Override PartName="/ppt/media/image10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C7D-269F-42C8-B434-C31701BD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2E4-E528-4B3F-AA79-DD49FCFE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62A67-A376-434E-B12C-899C7EA2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7F335-CFAE-40D6-87FB-796F35F1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38EB5-C113-4C83-AD87-79A60371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CC672-CE7D-40A9-AB21-1DA69EF6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0D04B-9757-449D-947C-A5C23B6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E2790-99FA-4064-BD6C-E331D892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859C0-8623-4387-9C37-82435623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7F9F2-4EED-408E-B931-BE0C514A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68CB7-DA2C-4616-B89D-A6F2E132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23FA-8FFA-4183-A1EE-C65EAA45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5ECC-D229-47BA-9E51-5C14C005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48DD-3673-4E06-B423-C75A7CEB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9AFD-3D8D-4459-930E-D9E8502E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CFC-8F3A-47BF-B701-81C21DD5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9AE0-4765-4ECD-AAB0-2F7C303B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52CF-FB71-4D02-B39A-F9743DCB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C6F8-6AC7-456E-B7CE-A84797B8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33F0-E392-445A-8C7D-531E604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3D0-3FF2-4CEC-8B13-95235C81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53A3-162B-4789-9EAD-E6A0522B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F831-2685-4230-9ECD-4A7927E6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D342-6051-4168-901B-E80C739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5D7F-18AB-45B0-902D-14C33CBD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79F5-40B8-4D9E-A235-AB8DB3D8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A04C0-93C7-4AAB-BCFE-082EDB74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E8283-A7E5-4D72-A8B5-FFB45080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8DED2-702C-46F6-B5EE-0A8AF805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D177-C0FD-4E09-8BCB-9BB8A645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5400-4EAF-451B-B776-24D919A7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714-6860-4A2B-BEB6-AF2642E6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FFF77-9066-4677-B754-117F23EC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2772E-AB88-4630-8457-80498FE1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A7A58-A2BA-4302-9F47-078F7C09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954F-8B7D-4BFD-A4C5-3B52883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70707-C66D-4A56-ADFF-F41B728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8D75-EDD0-432C-800B-61581418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AC760-EC50-4A8D-A5AC-2FE13F01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25A73-FF58-442D-B8D7-87B6A4B8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755A-9BC7-4070-B115-7FC35B0D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2A0D9-734B-4113-BD0E-E829154E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53E-2B85-4D84-B827-0FE028DE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CF02-CD27-4693-87EF-A936776E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E0B06-43C9-4B00-8090-572219DD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EBA6F-5A6A-4424-9F12-13E87F56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E3A0-F81A-487A-81B9-0E2E9C3E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12E3E-DDD2-47CD-887F-A920E0AD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D83D9-3CFA-4A44-BE21-125DBE59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B3B2A-E594-4145-92EA-43270B88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B07A-4884-4D9F-BCE8-C145C311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082A3-4D40-4A10-8502-22C5E19F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3BB22-98B2-4A88-848E-AB998106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C7ED-3A2E-4A4E-907D-3053202B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5F15D-78DD-4FD0-9A5D-16B8AAA2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CEA60-B061-4C32-8184-B5042D81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0B813-A1FE-41A1-AB05-19289AC1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DD33F-CCCC-4D64-B7E5-AD7582D7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447A-385E-45AB-B318-D693CCEB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39E3D-DB47-4AD3-8283-441DFD89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B4DE-AE24-44E7-93DB-39B5AD2A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BF5ED-0EC1-4CE1-B9A3-D9AADDA0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E5D02-67E9-42AA-B5F9-1401CE8D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A9113-29F9-46AE-BA46-CE582390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48B1-F3F7-43A7-BDFF-085EF1B5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1155-D701-4E6F-8EC3-40B86B78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D8FC6-3422-4BB1-8932-7FE516E0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58936-D114-438E-985A-B33805C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0218C-2BE8-4B40-A283-F2E37C17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12F9-A18F-4F81-BFCE-0B5819C4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5C49-D1D6-401F-8253-321A7917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4AA34-A5AC-4103-B485-C2EA2CC6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83393-5734-4C1C-82A8-30C8DFFB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542D-D756-437B-B0CB-4BEAD5B2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C9E4-7F50-4DED-A966-BBE512F2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80F-6CD8-47FF-A583-E5EFB631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95B4-CDD3-4E4E-9409-8E83E7A2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651C-82C7-485A-85B9-C71A7E97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3E2D0-5886-49D0-83B5-12BB84E0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D7697-9183-4512-AE15-0A46DBCF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67046-92EC-49C1-80AA-0B2893FD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1D5B7-B897-4AAB-B003-4391F5FC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EEA53-85DE-45B1-90A1-C22F8089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6304-DDDC-4500-9FCA-32417686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FB458-4853-4D71-A996-396175FB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F7BF6-58A0-4599-AECC-06030CE8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9C8-0D5D-46CB-86F2-379E1F3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FA98E-8E74-473C-9E5A-324BD33C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3EAC0-A4AA-451E-B289-6F4C5255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0E26E-A52E-41D8-B4A5-F4C9C6E9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F7F07-51B0-4C23-81F7-C77C7E7F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41525-5EB6-4D93-AF70-79BF0CC8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18F33-6DF0-4F86-AD3D-F8CB5D0B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11172-ED42-415E-A38D-5B12C5A4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870B2-1708-4B1D-85FC-C60CCF0E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A1F04-46A9-4D4F-B828-092C3524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B537E-2165-4D19-A01B-20740F24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FC1-3D5C-4E7E-A975-AFD792D8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825CC-B16A-4E58-B6F7-091DC78C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93BAF-750E-4CFF-9CF4-AE2EAA0A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E5FF8-B25E-401D-B6FA-B233C04A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293F8-FAFF-4A4D-B764-9AC1F6E0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91C79-C813-4C58-8529-2D48654D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E8C2E-774E-4DB5-B56E-0EFD6F7E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16D92-D099-46AB-A458-73CA5AF0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1B6C47-E7E1-4A72-8C39-62B1853B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253D3-D933-4E7E-82F5-34DF113E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74D37-3562-4120-A657-25358DF6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1434-5076-435A-885F-0C7B66D8621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FCFD-E4FE-4140-A9B5-0DE9823707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C561-E2DA-41B5-BFA5-2C456C3C3E2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6B0A-F6D3-45E3-A596-07C78E0A022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E79A-07A0-436F-821F-2100835504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D506-6E5E-4BBF-BEB9-EACC09ADE6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565C-E3F8-4FB3-873F-0F9B5DCBBA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B776-1CF1-4AC6-88E5-F5FAFAF3064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8A54-15CE-45F5-BB91-73885FADBF1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5.wmf"/><Relationship Id="rId9" Type="http://schemas.openxmlformats.org/officeDocument/2006/relationships/image" Target="../media/image55.jpeg"/><Relationship Id="rId10" Type="http://schemas.openxmlformats.org/officeDocument/2006/relationships/image" Target="../media/image55.jpeg"/><Relationship Id="rId1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2"/>
          <a:stretch/>
        </p:blipFill>
        <p:spPr>
          <a:xfrm>
            <a:off x="237960" y="4784760"/>
            <a:ext cx="8607600" cy="13604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3329"/>
                </a:solidFill>
                <a:latin typeface="Times New Roman"/>
              </a:rPr>
              <a:t>Canada and Saskatchewan</a:t>
            </a:r>
            <a:endParaRPr b="0" lang="en-US" sz="3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1" name="Picture 2" descr="C:\Documents and Settings\Owner\Local Settings\Temporary Internet Files\Content.IE5\4NWD2U1B\MPj04032500000[1].jpg"/>
          <p:cNvPicPr/>
          <p:nvPr/>
        </p:nvPicPr>
        <p:blipFill>
          <a:blip r:embed="rId3"/>
          <a:stretch/>
        </p:blipFill>
        <p:spPr>
          <a:xfrm>
            <a:off x="2614680" y="685800"/>
            <a:ext cx="3914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4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6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6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Union of four colonies: Ontario, Quebec, Nova Scotia &amp; New Brunswick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British North America Act (Canadian Constitution)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Minority faith provisions – Sec. 93 Education placed in provincial jurisdic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Quebec – dual confessional model with separate structures for Catholic &amp; Protestant system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Ontario – non-sectarian state school system with minority faith schools. Model for Saskatchewa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37" name="Picture 2" descr="C:\Documents and Settings\Owner\Local Settings\Temporary Internet Files\Content.IE5\WX21GTW0\MCj01569290000[1].wmf"/>
          <p:cNvPicPr/>
          <p:nvPr/>
        </p:nvPicPr>
        <p:blipFill>
          <a:blip r:embed="rId3"/>
          <a:stretch/>
        </p:blipFill>
        <p:spPr>
          <a:xfrm>
            <a:off x="6934320" y="175248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C:\Documents and Settings\Owner\Local Settings\Temporary Internet Files\Content.IE5\PIZ49X1L\MCj01569270000[1].wmf"/>
          <p:cNvPicPr/>
          <p:nvPr/>
        </p:nvPicPr>
        <p:blipFill>
          <a:blip r:embed="rId4"/>
          <a:stretch/>
        </p:blipFill>
        <p:spPr>
          <a:xfrm>
            <a:off x="4876920" y="1828800"/>
            <a:ext cx="1820880" cy="1790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C:\Documents and Settings\Owner\Local Settings\Temporary Internet Files\Content.IE5\SVQSRMMS\MCj01569370000[1].wmf"/>
          <p:cNvPicPr/>
          <p:nvPr/>
        </p:nvPicPr>
        <p:blipFill>
          <a:blip r:embed="rId5"/>
          <a:stretch/>
        </p:blipFill>
        <p:spPr>
          <a:xfrm>
            <a:off x="7010280" y="3962520"/>
            <a:ext cx="1820880" cy="1827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C:\Documents and Settings\Owner\Local Settings\Temporary Internet Files\Content.IE5\YW5CV2IN\MCj01569350000[1].wmf"/>
          <p:cNvPicPr/>
          <p:nvPr/>
        </p:nvPicPr>
        <p:blipFill>
          <a:blip r:embed="rId6"/>
          <a:stretch/>
        </p:blipFill>
        <p:spPr>
          <a:xfrm>
            <a:off x="4876920" y="3962520"/>
            <a:ext cx="18730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1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N.A Act, 1867 (Constitution Act, 198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3"/>
          <p:cNvSpPr/>
          <p:nvPr/>
        </p:nvSpPr>
        <p:spPr>
          <a:xfrm>
            <a:off x="457200" y="2057400"/>
            <a:ext cx="2057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ction 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Parlia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of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iminal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ia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m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vorc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residual pow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4"/>
          <p:cNvSpPr/>
          <p:nvPr/>
        </p:nvSpPr>
        <p:spPr>
          <a:xfrm>
            <a:off x="3276720" y="2057400"/>
            <a:ext cx="198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ection 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</a:rPr>
              <a:t>Provinc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</a:rPr>
              <a:t>Legisl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minis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y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vil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pital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6095880" y="2057400"/>
            <a:ext cx="243864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</a:rPr>
              <a:t>Section 9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b050"/>
                </a:solidFill>
                <a:latin typeface="Times New Roman"/>
              </a:rPr>
              <a:t>Edu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vinces exclusivel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ake law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nominational Righ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medial Power of Parliament of Can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ducation Act and Regul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3" descr="C:\Documents and Settings\Owner\Local Settings\Temporary Internet Files\Content.IE5\A8FN2AXY\MCFL00338_0000[1].wmf"/>
          <p:cNvPicPr/>
          <p:nvPr/>
        </p:nvPicPr>
        <p:blipFill>
          <a:blip r:embed="rId2"/>
          <a:stretch/>
        </p:blipFill>
        <p:spPr>
          <a:xfrm>
            <a:off x="3581280" y="1066680"/>
            <a:ext cx="1447920" cy="10303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Owner\Local Settings\Temporary Internet Files\Content.IE5\A8FN2AXY\MCFL00338_0000[1].wmf"/>
          <p:cNvPicPr/>
          <p:nvPr/>
        </p:nvPicPr>
        <p:blipFill>
          <a:blip r:embed="rId3"/>
          <a:stretch/>
        </p:blipFill>
        <p:spPr>
          <a:xfrm>
            <a:off x="6553080" y="1066680"/>
            <a:ext cx="1447920" cy="10303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Documents and Settings\Owner\Local Settings\Temporary Internet Files\Content.IE5\WX21GTW0\MCFL00366_0000[1].wmf"/>
          <p:cNvPicPr/>
          <p:nvPr/>
        </p:nvPicPr>
        <p:blipFill>
          <a:blip r:embed="rId4"/>
          <a:stretch/>
        </p:blipFill>
        <p:spPr>
          <a:xfrm>
            <a:off x="838080" y="1066680"/>
            <a:ext cx="1371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Roman Catholic, Francophone and Metis – provision for minority faith educa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Dual Confessional Model (control of Roman Catholic system separate from provincial government)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Settlement of Manitoba by English speaking settler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Concern that new immigrants – Ukrainian, etc. – learn English language and culture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Manitoba government removes minority faith protec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50" name="Content Placeholder 4" descr="Manitoba Leg.jpg"/>
          <p:cNvPicPr/>
          <p:nvPr/>
        </p:nvPicPr>
        <p:blipFill>
          <a:blip r:embed="rId3"/>
          <a:stretch/>
        </p:blipFill>
        <p:spPr>
          <a:xfrm>
            <a:off x="5251320" y="1612800"/>
            <a:ext cx="313704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Manitoba’s Roman Catholics appeal to Canadian government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Conservative Prime Minister Mackenzie Bowell (from Ontario) supports their claim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Opposition leader Wilfred Laurier, Quebec Francophone, supports Manitoba provincial government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Laurier wins the General Elec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Loss of Minority Faith Right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53" name="Content Placeholder 4" descr="Mackenzie Bowell.jpg"/>
          <p:cNvPicPr/>
          <p:nvPr/>
        </p:nvPicPr>
        <p:blipFill>
          <a:blip r:embed="rId3"/>
          <a:stretch/>
        </p:blipFill>
        <p:spPr>
          <a:xfrm>
            <a:off x="6172200" y="1447920"/>
            <a:ext cx="1371600" cy="19047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wilfred laurier.jpg"/>
          <p:cNvPicPr/>
          <p:nvPr/>
        </p:nvPicPr>
        <p:blipFill>
          <a:blip r:embed="rId4"/>
          <a:stretch/>
        </p:blipFill>
        <p:spPr>
          <a:xfrm>
            <a:off x="6172200" y="365760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2"/>
          <a:stretch/>
        </p:blipFill>
        <p:spPr>
          <a:xfrm>
            <a:off x="225360" y="450720"/>
            <a:ext cx="8772480" cy="854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Dual Confessional Model (control of Roman Catholic system separate from provincial government) in the North West Territories (NWT) – 1885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NWT Assembly moves to Ontario Model (non-sectarian state school system with minority faith schools) – 1892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1905 – debate over admission of Saskatchewan and Alberta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Prime Minister Laurier proposes return to Dual Confessional Model – 1885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Times New Roman"/>
              </a:rPr>
              <a:t>Roman Catholic Church and Quebec unhappy – Manitoba School Question</a:t>
            </a:r>
            <a:endParaRPr b="0" lang="en-US" sz="18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57" name="Picture 2" descr="C:\Documents and Settings\Owner\Local Settings\Temporary Internet Files\Content.IE5\4NWD2U1B\MCj01569250000[1].wmf"/>
          <p:cNvPicPr/>
          <p:nvPr/>
        </p:nvPicPr>
        <p:blipFill>
          <a:blip r:embed="rId3"/>
          <a:stretch/>
        </p:blipFill>
        <p:spPr>
          <a:xfrm>
            <a:off x="5867280" y="4267080"/>
            <a:ext cx="1820880" cy="1778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Owner\Local Settings\Temporary Internet Files\Content.IE5\PIZ49X1L\MCj01569230000[1].wmf"/>
          <p:cNvPicPr/>
          <p:nvPr/>
        </p:nvPicPr>
        <p:blipFill>
          <a:blip r:embed="rId4"/>
          <a:stretch/>
        </p:blipFill>
        <p:spPr>
          <a:xfrm>
            <a:off x="5867280" y="1752480"/>
            <a:ext cx="18208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Title 1" descr=""/>
          <p:cNvPicPr/>
          <p:nvPr/>
        </p:nvPicPr>
        <p:blipFill>
          <a:blip r:embed="rId2"/>
          <a:stretch/>
        </p:blipFill>
        <p:spPr>
          <a:xfrm>
            <a:off x="225360" y="450720"/>
            <a:ext cx="8772480" cy="8542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Major crisis – Clifford Sifton, NWT MP, and prominent member of Laurier’s Cabinet, resign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Longest debate in the House of Commons – third longest in history of Canadian Parliament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Prime Minister Laurier relents – adopts non-sectarian state school system with minority faith schools already in place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Current system – provincial Ministry of Education and minority faith schools (Regina Public and Regina Catholic)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61" name="Content Placeholder 4" descr="clifford sifton.jpg"/>
          <p:cNvPicPr/>
          <p:nvPr/>
        </p:nvPicPr>
        <p:blipFill>
          <a:blip r:embed="rId3"/>
          <a:stretch/>
        </p:blipFill>
        <p:spPr>
          <a:xfrm>
            <a:off x="5943600" y="1676520"/>
            <a:ext cx="1324080" cy="15238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sask leg.jpg"/>
          <p:cNvPicPr/>
          <p:nvPr/>
        </p:nvPicPr>
        <p:blipFill>
          <a:blip r:embed="rId4"/>
          <a:stretch/>
        </p:blipFill>
        <p:spPr>
          <a:xfrm>
            <a:off x="4800600" y="3886200"/>
            <a:ext cx="1676520" cy="13906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alberta leg.jpg"/>
          <p:cNvPicPr/>
          <p:nvPr/>
        </p:nvPicPr>
        <p:blipFill>
          <a:blip r:embed="rId5"/>
          <a:stretch/>
        </p:blipFill>
        <p:spPr>
          <a:xfrm>
            <a:off x="6858000" y="3886200"/>
            <a:ext cx="1676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6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6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6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6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6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6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6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6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6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6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6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6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Implications – Education in Saskatchewan: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Education is a provincial responsibility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Provision for minority faith education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Education is political – school division restructuring, funding, social policy issue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Scottish/American Influence – local control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Treatment of disadvantaged/minorities</a:t>
            </a:r>
            <a:endParaRPr b="0" lang="en-US" sz="20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66" name="Content Placeholder 4" descr="kids.jpg"/>
          <p:cNvPicPr/>
          <p:nvPr/>
        </p:nvPicPr>
        <p:blipFill>
          <a:blip r:embed="rId3"/>
          <a:stretch/>
        </p:blipFill>
        <p:spPr>
          <a:xfrm>
            <a:off x="5029200" y="152388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kids2.jpg"/>
          <p:cNvPicPr/>
          <p:nvPr/>
        </p:nvPicPr>
        <p:blipFill>
          <a:blip r:embed="rId4"/>
          <a:stretch/>
        </p:blipFill>
        <p:spPr>
          <a:xfrm>
            <a:off x="5029200" y="3886200"/>
            <a:ext cx="34797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1"/>
          <p:cNvSpPr/>
          <p:nvPr/>
        </p:nvSpPr>
        <p:spPr>
          <a:xfrm>
            <a:off x="1066680" y="457200"/>
            <a:ext cx="731520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ERARCHY OF LEGAL CONTROL OVER EDUCATIONAL POLICY AND PRAC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2362320" y="17524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STITU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 Section 93 &amp; Cana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ter of Rights &amp; Free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1981080" y="2590920"/>
            <a:ext cx="26672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TAT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katchewan Teachers’ Feder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katchewan Human Rights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Code of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th Criminal Justice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4"/>
          <p:cNvSpPr/>
          <p:nvPr/>
        </p:nvSpPr>
        <p:spPr>
          <a:xfrm>
            <a:off x="1371600" y="3962520"/>
            <a:ext cx="3022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Act, Section 372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g. The Education Regulations, 198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cher Certifica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Regulatio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1066680" y="5181480"/>
            <a:ext cx="327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ON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g. Precedent – R v. Oakes, etc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principle –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 loco parenti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1066680" y="601992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ULES &amp; POLI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Straight Arrow Connector 9" descr=""/>
          <p:cNvPicPr/>
          <p:nvPr/>
        </p:nvPicPr>
        <p:blipFill>
          <a:blip r:embed="rId2"/>
          <a:stretch/>
        </p:blipFill>
        <p:spPr>
          <a:xfrm>
            <a:off x="3333600" y="5121360"/>
            <a:ext cx="3706920" cy="523800"/>
          </a:xfrm>
          <a:prstGeom prst="rect">
            <a:avLst/>
          </a:prstGeom>
          <a:ln w="0">
            <a:noFill/>
          </a:ln>
        </p:spPr>
      </p:pic>
      <p:pic>
        <p:nvPicPr>
          <p:cNvPr id="475" name="Straight Arrow Connector 12" descr=""/>
          <p:cNvPicPr/>
          <p:nvPr/>
        </p:nvPicPr>
        <p:blipFill>
          <a:blip r:embed="rId3"/>
          <a:stretch/>
        </p:blipFill>
        <p:spPr>
          <a:xfrm>
            <a:off x="6523200" y="4054320"/>
            <a:ext cx="517320" cy="1419480"/>
          </a:xfrm>
          <a:prstGeom prst="rect">
            <a:avLst/>
          </a:prstGeom>
          <a:ln w="0">
            <a:noFill/>
          </a:ln>
        </p:spPr>
      </p:pic>
      <p:cxnSp>
        <p:nvCxnSpPr>
          <p:cNvPr id="476" name="Straight Arrow Connector 14"/>
          <p:cNvCxnSpPr/>
          <p:nvPr/>
        </p:nvCxnSpPr>
        <p:spPr>
          <a:xfrm flipH="1" flipV="1">
            <a:off x="3962520" y="4266360"/>
            <a:ext cx="2667240" cy="25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477" name="Straight Arrow Connector 16"/>
          <p:cNvCxnSpPr/>
          <p:nvPr/>
        </p:nvCxnSpPr>
        <p:spPr>
          <a:xfrm flipH="1" flipV="1">
            <a:off x="4647600" y="3200040"/>
            <a:ext cx="1905480" cy="216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478" name="Straight Arrow Connector 20"/>
          <p:cNvCxnSpPr/>
          <p:nvPr/>
        </p:nvCxnSpPr>
        <p:spPr>
          <a:xfrm flipH="1" flipV="1">
            <a:off x="5104800" y="2208960"/>
            <a:ext cx="1448280" cy="25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pic>
        <p:nvPicPr>
          <p:cNvPr id="479" name="Straight Arrow Connector 28" descr=""/>
          <p:cNvPicPr/>
          <p:nvPr/>
        </p:nvPicPr>
        <p:blipFill>
          <a:blip r:embed="rId4"/>
          <a:stretch/>
        </p:blipFill>
        <p:spPr>
          <a:xfrm>
            <a:off x="6443640" y="3067200"/>
            <a:ext cx="517680" cy="1193760"/>
          </a:xfrm>
          <a:prstGeom prst="rect">
            <a:avLst/>
          </a:prstGeom>
          <a:ln w="0">
            <a:noFill/>
          </a:ln>
        </p:spPr>
      </p:pic>
      <p:pic>
        <p:nvPicPr>
          <p:cNvPr id="480" name="Straight Arrow Connector 31" descr=""/>
          <p:cNvPicPr/>
          <p:nvPr/>
        </p:nvPicPr>
        <p:blipFill>
          <a:blip r:embed="rId5"/>
          <a:stretch/>
        </p:blipFill>
        <p:spPr>
          <a:xfrm>
            <a:off x="6370560" y="2073240"/>
            <a:ext cx="517680" cy="1114560"/>
          </a:xfrm>
          <a:prstGeom prst="rect">
            <a:avLst/>
          </a:prstGeom>
          <a:ln w="0">
            <a:noFill/>
          </a:ln>
        </p:spPr>
      </p:pic>
      <p:sp>
        <p:nvSpPr>
          <p:cNvPr id="481" name="Straight Connector 37"/>
          <p:cNvSpPr/>
          <p:nvPr/>
        </p:nvSpPr>
        <p:spPr>
          <a:xfrm>
            <a:off x="4724280" y="601992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41"/>
          <p:cNvSpPr/>
          <p:nvPr/>
        </p:nvSpPr>
        <p:spPr>
          <a:xfrm flipV="1">
            <a:off x="4724280" y="1676160"/>
            <a:ext cx="1828800" cy="434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43"/>
          <p:cNvSpPr/>
          <p:nvPr/>
        </p:nvSpPr>
        <p:spPr>
          <a:xfrm>
            <a:off x="6552360" y="1676520"/>
            <a:ext cx="2057400" cy="434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8" descr="C:\Documents and Settings\Owner\Local Settings\Temporary Internet Files\Content.IE5\WX21GTW0\MCFL00366_0000[1].wmf"/>
          <p:cNvPicPr/>
          <p:nvPr/>
        </p:nvPicPr>
        <p:blipFill>
          <a:blip r:embed="rId6"/>
          <a:stretch/>
        </p:blipFill>
        <p:spPr>
          <a:xfrm>
            <a:off x="1600200" y="1828800"/>
            <a:ext cx="693720" cy="380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C:\Documents and Settings\Owner\Local Settings\Temporary Internet Files\Content.IE5\WX21GTW0\MCFL00366_0000[1].wmf"/>
          <p:cNvPicPr/>
          <p:nvPr/>
        </p:nvPicPr>
        <p:blipFill>
          <a:blip r:embed="rId7"/>
          <a:stretch/>
        </p:blipFill>
        <p:spPr>
          <a:xfrm>
            <a:off x="1066680" y="3276720"/>
            <a:ext cx="69372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C:\Documents and Settings\Owner\Local Settings\Temporary Internet Files\Content.IE5\WX21GTW0\MCFL00366_0000[1].wmf"/>
          <p:cNvPicPr/>
          <p:nvPr/>
        </p:nvPicPr>
        <p:blipFill>
          <a:blip r:embed="rId8"/>
          <a:stretch/>
        </p:blipFill>
        <p:spPr>
          <a:xfrm>
            <a:off x="609480" y="4495680"/>
            <a:ext cx="693720" cy="381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" descr="C:\Documents and Settings\Owner\Local Settings\Temporary Internet Files\Content.IE5\4NWD2U1B\MPj03628170000[1].jpg"/>
          <p:cNvPicPr/>
          <p:nvPr/>
        </p:nvPicPr>
        <p:blipFill>
          <a:blip r:embed="rId9"/>
          <a:stretch/>
        </p:blipFill>
        <p:spPr>
          <a:xfrm>
            <a:off x="1066680" y="2743200"/>
            <a:ext cx="685800" cy="380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9" descr="C:\Documents and Settings\Owner\Local Settings\Temporary Internet Files\Content.IE5\4NWD2U1B\MPj03628170000[1].jpg"/>
          <p:cNvPicPr/>
          <p:nvPr/>
        </p:nvPicPr>
        <p:blipFill>
          <a:blip r:embed="rId10"/>
          <a:stretch/>
        </p:blipFill>
        <p:spPr>
          <a:xfrm>
            <a:off x="609480" y="3962520"/>
            <a:ext cx="6858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77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5" dur="770" fill="hold"/>
                                        <p:tgtEl>
                                          <p:spTgt spid="4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9" dur="77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77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4" dur="770" fill="hold"/>
                                        <p:tgtEl>
                                          <p:spTgt spid="4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6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8" dur="77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77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4" dur="770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8" dur="77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4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77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2" dur="770" fill="hold"/>
                                        <p:tgtEl>
                                          <p:spTgt spid="4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4" dur="77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6" dur="77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77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1" dur="770" fill="hold"/>
                                        <p:tgtEl>
                                          <p:spTgt spid="4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3" dur="77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5" dur="77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0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2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6000"/>
                            </p:stCondLst>
                            <p:childTnLst>
                              <p:par>
                                <p:cTn id="8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0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8000"/>
                            </p:stCondLst>
                            <p:childTnLst>
                              <p:par>
                                <p:cTn id="8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0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2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4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" y="1553760"/>
            <a:ext cx="894564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al issues are boring/non-political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is political – the founding of Canada,                     entry of Saskatchewan and Alberta into                  Confederation,  the last Ontario election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is a battleground for major social issues         including religion, family life education, creationism,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gay rights, etc.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4" name="Picture 2" descr="C:\Documents and Settings\Owner\Local Settings\Temporary Internet Files\Content.IE5\YW5CV2IN\MCj04257920000[1].wmf"/>
          <p:cNvPicPr/>
          <p:nvPr/>
        </p:nvPicPr>
        <p:blipFill>
          <a:blip r:embed="rId3"/>
          <a:stretch/>
        </p:blipFill>
        <p:spPr>
          <a:xfrm>
            <a:off x="7315200" y="14479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C:\Documents and Settings\Owner\Local Settings\Temporary Internet Files\Content.IE5\SVQSRMMS\MCj04039370000[1].wmf"/>
          <p:cNvPicPr/>
          <p:nvPr/>
        </p:nvPicPr>
        <p:blipFill>
          <a:blip r:embed="rId4"/>
          <a:stretch/>
        </p:blipFill>
        <p:spPr>
          <a:xfrm>
            <a:off x="7391520" y="289548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C:\Documents and Settings\Owner\Local Settings\Temporary Internet Files\Content.IE5\YW5CV2IN\MCj03536190000[1].wmf"/>
          <p:cNvPicPr/>
          <p:nvPr/>
        </p:nvPicPr>
        <p:blipFill>
          <a:blip r:embed="rId5"/>
          <a:stretch/>
        </p:blipFill>
        <p:spPr>
          <a:xfrm>
            <a:off x="7467480" y="4572000"/>
            <a:ext cx="1067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Quality Publicly Funded Education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Canada funds quality public education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More typical – poorly funded public schools                  (Mexico) or limited access (China – 30% of           students have no access to secondary education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Wealthy attend superior privately funded                         school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09" name="Picture 4" descr="C:\Documents and Settings\Owner\Local Settings\Temporary Internet Files\Content.IE5\SVQSRMMS\MPj04225890000[1].jpg"/>
          <p:cNvPicPr/>
          <p:nvPr/>
        </p:nvPicPr>
        <p:blipFill>
          <a:blip r:embed="rId3"/>
          <a:stretch/>
        </p:blipFill>
        <p:spPr>
          <a:xfrm>
            <a:off x="6781680" y="15238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C:\Documents and Settings\Owner\Local Settings\Temporary Internet Files\Content.IE5\VSXLM9KM\MPj04276350000[1].jpg"/>
          <p:cNvPicPr/>
          <p:nvPr/>
        </p:nvPicPr>
        <p:blipFill>
          <a:blip r:embed="rId4"/>
          <a:stretch/>
        </p:blipFill>
        <p:spPr>
          <a:xfrm>
            <a:off x="6781680" y="312408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C:\Documents and Settings\Owner\Local Settings\Temporary Internet Files\Content.IE5\PIZ49X1L\MPj04422830000[1].jpg"/>
          <p:cNvPicPr/>
          <p:nvPr/>
        </p:nvPicPr>
        <p:blipFill>
          <a:blip r:embed="rId5"/>
          <a:stretch/>
        </p:blipFill>
        <p:spPr>
          <a:xfrm>
            <a:off x="6781680" y="4800600"/>
            <a:ext cx="160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Role of Religion in Education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Religion and Education are closely linked –                   separate section in Canadian constitution,                      publicly funded minority faith school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Canada Pragmatic – usually public education and religion separated (United States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Result – more Private Schools in other countrie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4" name="Picture 2" descr="C:\Documents and Settings\Owner\Local Settings\Temporary Internet Files\Content.IE5\A8FN2AXY\MCj04348480000[1].png"/>
          <p:cNvPicPr/>
          <p:nvPr/>
        </p:nvPicPr>
        <p:blipFill>
          <a:blip r:embed="rId3"/>
          <a:stretch/>
        </p:blipFill>
        <p:spPr>
          <a:xfrm>
            <a:off x="6772320" y="185724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258840" y="1554120"/>
            <a:ext cx="873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a Provincial responsibility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is usually a National responsibility –             different provinces – different standard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Treatment of Minority/Disadvantaged Groups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Need for focus on Human/Social Justice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17" name="Picture 2" descr="C:\Documents and Settings\Owner\Local Settings\Temporary Internet Files\Content.IE5\SVQSRMMS\MPj03856380000[1].jpg"/>
          <p:cNvPicPr/>
          <p:nvPr/>
        </p:nvPicPr>
        <p:blipFill>
          <a:blip r:embed="rId3"/>
          <a:stretch/>
        </p:blipFill>
        <p:spPr>
          <a:xfrm>
            <a:off x="7315200" y="1371600"/>
            <a:ext cx="1243080" cy="1295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C:\Documents and Settings\Owner\Local Settings\Temporary Internet Files\Content.IE5\YW5CV2IN\MPj04052240000[1].jpg"/>
          <p:cNvPicPr/>
          <p:nvPr/>
        </p:nvPicPr>
        <p:blipFill>
          <a:blip r:embed="rId4"/>
          <a:stretch/>
        </p:blipFill>
        <p:spPr>
          <a:xfrm>
            <a:off x="7238880" y="2819520"/>
            <a:ext cx="1371600" cy="1562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Owner\Local Settings\Temporary Internet Files\Content.IE5\YW5CV2IN\MPj04276110000[1].jpg"/>
          <p:cNvPicPr/>
          <p:nvPr/>
        </p:nvPicPr>
        <p:blipFill>
          <a:blip r:embed="rId5"/>
          <a:stretch/>
        </p:blipFill>
        <p:spPr>
          <a:xfrm>
            <a:off x="7238880" y="4572000"/>
            <a:ext cx="137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2"/>
          <a:stretch/>
        </p:blipFill>
        <p:spPr>
          <a:xfrm>
            <a:off x="189000" y="396720"/>
            <a:ext cx="8808840" cy="908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93720"/>
            <a:ext cx="86868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French Tradition – Education and the Church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nglish Tradition – Education and the church class-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based system                               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American Tradition – impact of religion, democracy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and equality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Scottish Tradition – democracy and equality, practical  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                  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curriculum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22" name="Picture 4" descr="C:\Documents and Settings\Owner\Local Settings\Temporary Internet Files\Content.IE5\YW5CV2IN\MPj04007970000[1].jpg"/>
          <p:cNvPicPr/>
          <p:nvPr/>
        </p:nvPicPr>
        <p:blipFill>
          <a:blip r:embed="rId3"/>
          <a:stretch/>
        </p:blipFill>
        <p:spPr>
          <a:xfrm>
            <a:off x="685800" y="25146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Owner\Local Settings\Temporary Internet Files\Content.IE5\VSXLM9KM\MCj04361800000[1].png"/>
          <p:cNvPicPr/>
          <p:nvPr/>
        </p:nvPicPr>
        <p:blipFill>
          <a:blip r:embed="rId4"/>
          <a:stretch/>
        </p:blipFill>
        <p:spPr>
          <a:xfrm>
            <a:off x="609480" y="3733920"/>
            <a:ext cx="1035000" cy="1085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C:\Documents and Settings\Owner\Local Settings\Temporary Internet Files\Content.IE5\YW5CV2IN\MCFL00085_0000[1].wmf"/>
          <p:cNvPicPr/>
          <p:nvPr/>
        </p:nvPicPr>
        <p:blipFill>
          <a:blip r:embed="rId5"/>
          <a:stretch/>
        </p:blipFill>
        <p:spPr>
          <a:xfrm>
            <a:off x="609480" y="5105520"/>
            <a:ext cx="105264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8" descr="C:\Documents and Settings\Owner\Local Settings\Temporary Internet Files\Content.IE5\A8FN2AXY\MPj04365770000[1].jpg"/>
          <p:cNvPicPr/>
          <p:nvPr/>
        </p:nvPicPr>
        <p:blipFill>
          <a:blip r:embed="rId6"/>
          <a:stretch/>
        </p:blipFill>
        <p:spPr>
          <a:xfrm>
            <a:off x="685800" y="1447920"/>
            <a:ext cx="914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2"/>
          <a:stretch/>
        </p:blipFill>
        <p:spPr>
          <a:xfrm>
            <a:off x="195120" y="450720"/>
            <a:ext cx="8802720" cy="9082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The Treaty of Paris (1763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Britain allows New France (Quebec) freedom of religion and language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Education of French population left with the Roman Catholic Church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British ruling and business classes establish minority schools for their children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28" name="Picture 2" descr="C:\Documents and Settings\Owner\Local Settings\Temporary Internet Files\Content.IE5\PIZ49X1L\MPj04038640000[1].jpg"/>
          <p:cNvPicPr/>
          <p:nvPr/>
        </p:nvPicPr>
        <p:blipFill>
          <a:blip r:embed="rId3"/>
          <a:stretch/>
        </p:blipFill>
        <p:spPr>
          <a:xfrm>
            <a:off x="4648320" y="25146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American Loyalists – flee USA and settle in British North America (Canada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Loyalist Culture and Values Impact – respect for authority, commitment to British crown and culture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Mixed Values in Education: control by church (English) vs democratic &amp; egalitarian control (USA)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Canada – not like the USA</a:t>
            </a:r>
            <a:endParaRPr b="0" lang="en-US" sz="24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31" name="Picture 3" descr="C:\Documents and Settings\Owner\Local Settings\Temporary Internet Files\Content.IE5\WX21GTW0\MCj01500540000[1].wmf"/>
          <p:cNvPicPr/>
          <p:nvPr/>
        </p:nvPicPr>
        <p:blipFill>
          <a:blip r:embed="rId3"/>
          <a:stretch/>
        </p:blipFill>
        <p:spPr>
          <a:xfrm>
            <a:off x="5186520" y="2720880"/>
            <a:ext cx="32670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2"/>
          <a:stretch/>
        </p:blipFill>
        <p:spPr>
          <a:xfrm>
            <a:off x="165240" y="450720"/>
            <a:ext cx="8832600" cy="9874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British leery of democracy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Close relationship between Church and State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Rebellions in Upper (Ont) &amp; Lower (Que) Canada in 1837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Lord Durham investigates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Sweeping changes recommended: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Combine the two colonies under one Governor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3b30"/>
                </a:solidFill>
                <a:latin typeface="Times New Roman"/>
              </a:rPr>
              <a:t>Educational changes – provision for minority faith schools (Catholic/Protestant)</a:t>
            </a:r>
            <a:endParaRPr b="0" lang="en-US" sz="2200" spc="-1" strike="noStrike">
              <a:solidFill>
                <a:srgbClr val="4e3b30"/>
              </a:solidFill>
              <a:latin typeface="Times New Roman"/>
            </a:endParaRPr>
          </a:p>
        </p:txBody>
      </p:sp>
      <p:pic>
        <p:nvPicPr>
          <p:cNvPr id="434" name="Picture 2" descr="C:\Documents and Settings\Owner\Local Settings\Temporary Internet Files\Content.IE5\4NWD2U1B\MCj01498470000[1].wmf"/>
          <p:cNvPicPr/>
          <p:nvPr/>
        </p:nvPicPr>
        <p:blipFill>
          <a:blip r:embed="rId3"/>
          <a:stretch/>
        </p:blipFill>
        <p:spPr>
          <a:xfrm>
            <a:off x="5342040" y="2828880"/>
            <a:ext cx="29559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20:00:53Z</dcterms:created>
  <dc:creator>Your User Name</dc:creator>
  <dc:description/>
  <dc:language>en-US</dc:language>
  <cp:lastModifiedBy>Faculty of Education</cp:lastModifiedBy>
  <dcterms:modified xsi:type="dcterms:W3CDTF">2009-09-21T13:24:27Z</dcterms:modified>
  <cp:revision>45</cp:revision>
  <dc:subject/>
  <dc:title>The Historical and Constitutional Context of E</dc:title>
</cp:coreProperties>
</file>